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1A8-7CFD-41EF-933B-C62AC259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E6E-6E34-4500-AC33-40B04971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5F88A-464D-45B1-A86C-8472DAB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A2A29-B680-485B-BB11-3E86A85F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1A11D-BC22-41B6-AFC3-3FD8AE1C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8CF89-D216-43A5-BD26-A670D0A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A7747-9FEE-4905-B6CD-9689821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84D92-BF03-447B-9DC1-5FB652B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CA07-7B2A-47CF-87B7-E02DE1D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CA058-B1ED-4E5F-AA36-D7C681E1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A517-55E5-4294-B753-065547D7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543E-9A26-4D5A-B696-79678A6A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471-BA1D-456F-B14E-245CB45D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81310-FB7B-4E89-A24D-2F8C2BF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4D1C5-74CA-4F3D-BFF9-5E3F73C8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37A25-3596-41B0-9C6C-EE11EF7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A7113-899F-48F1-A02C-058FE6E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70414-1441-4CFF-8F5A-1826C9A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A50DC-FA79-47F4-B86E-4B1A82D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6E7F8-5FB0-4E0E-87B8-CB95001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2CE0-0694-407A-A34E-6770175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02D97-CE63-47D5-B4D5-0FD38E1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04AFC-CA48-4B63-A1D8-AA98382B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325-72D5-4107-B8A2-77DFC34B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470AF-C65B-471B-A420-7B648AC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59A9-490B-4467-926F-097D66C3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3D79A-2D1E-4A6B-9007-2E2F666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F91C-CDC7-42E8-9195-639FE95E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46AC-345B-48EE-90FD-7AFF6E41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63BDD-2F02-45EC-8006-B30DF3B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87D7F-32CF-49BF-A1D9-3CDD9EEA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6AFBD-5741-4A84-A5FD-3CC16DB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D5EC-4200-4A95-B1F5-D80F02B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860ED-6E9B-40C2-827D-F8F1D73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5A37-C90C-4ED0-87F6-C3270D71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4D3C0-8009-4091-AD88-EDC19E3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CB6D-37D3-4831-A0D3-5EAEBBDC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F70E9-311D-49A1-B820-F4296C65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B968F-62F1-4596-A6C8-B2393A58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239B5-9C55-4FDE-B2D7-09F1569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7FAF1-F5CD-4ACB-BE8D-61F9CFD3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627E3-7B3D-414F-AB13-C04A87A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9E6C8-E717-401F-9CC0-CB2515B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FA386-3048-48E2-833F-7D0300EA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6C3D5-A77A-4376-93F3-64EC19E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4D17-841C-4F3B-8281-C21C64E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93CE-4AF1-4EC9-BF20-E4CA294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E0DF8-48D8-43BB-BAF7-8C448DC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45895-5584-46CA-90CE-0F455A49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28DC-4D54-4783-BF25-090BB26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1287-9C60-45BD-A3AB-DA62BB56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39F93-BDDB-466D-B132-9898CE38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CB74B-014E-42B2-8754-F8110C7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12ED2-52E8-4923-84AE-4A1F0A7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C4F93-8D4C-4C5F-84B6-230C07F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4B1D4-FB0B-4A53-859A-CF07A12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128-622E-4E37-A599-5436A6D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7E8E7-6132-495D-B2F1-BA97713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936E4-C3ED-4DFB-A41E-72C74A1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26CDF-4575-4140-927E-183DB76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7C37B-6499-4758-825D-B0BF1BBB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308FA-3BBF-434E-B17D-56E3716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77EAE-7464-4BF2-A68F-200F0509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8594A-FEC7-411D-9909-08615832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0D1D9-A9B3-481B-B925-6359DB3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0B43C-ED1A-4442-89A5-DDBAA1C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D1BC0-FE00-4CB1-8CA7-739F94E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9D3C-531B-4534-8BD2-3A26D2F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5542E-642F-4E6B-BC83-353DCA2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E09F4-5423-42D3-913A-2686AD71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DA907-1FA1-48C9-BCAA-3110316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91537-12F4-499B-AC8B-0F7FAE2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AC5FF-2C8E-4BD4-9DB3-CF49A7C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3E1F7-9BC2-4A8B-B6EA-205E63A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AEC26-7794-4A49-92A3-42A05C2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FF58F-7DD2-46C8-98F5-61C2C343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627DE-B3BD-4DC7-AC50-A0CE2B16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DC0F0-118C-4DE7-9D53-061E1B65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4D50-9C0F-48BA-8475-31F03E91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7972D-2652-4396-91F1-6CAC9D09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E403A-506A-4A4D-B291-5A50151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50AB3-CF6E-42F6-9820-BBB9A4C1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FCA94-4630-46C7-8FD8-00D44C8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5D32B-C0B9-428B-A190-308CF65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B260A-710F-49B9-9E6E-38BB520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A08C8-B53D-495E-A64E-463EF30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8CA62-E80A-4F45-934F-33ECF26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5BE5A-B108-4B04-9F98-B9712EC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29D3E-07DF-48BE-9B0F-FAE3234E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09A6-2814-4BC1-AD52-040A821E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7D58B-74F5-4AF8-B971-1A9AD48A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CF24E-FF12-47A3-AA1D-090C1846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A9586-16CE-46E2-98A3-73D75306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114D9-E5FB-423A-8B57-671A5F6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84AD1-1F3C-474A-8A03-3FB5ACF5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DE06B-E7A1-4DC6-A43C-4723FCB6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91613-41D6-464B-AB41-D04A9F8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B5B41-2B4D-462C-96BA-E1A1939A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11167-5B42-461F-90A9-DEB39B6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2CE50-3698-4942-8EB9-A694280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68C-B335-479D-A5E1-53B43CA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FF0EC-4E81-49BD-8BCE-39D09A7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CD09B-90E9-4827-9E44-714A0EB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C6E4D-45F8-4DC2-B639-3183428C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84EA3-C0BD-4B14-B289-82CA2B76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DD0A2-0320-4963-B00F-68DB420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2068E-CEC3-45C7-8B7E-3473A94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35BD5-205E-44FD-90F9-D368C0C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2580B-8CC5-4BCA-8762-465A9E0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CEC62-CA07-4F92-BB2D-F6833BA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1AF8E-296B-419E-9F37-836D1F6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D55-4E31-4498-A11E-B9D54A7F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0B6E-CA6E-4763-8FC1-9E55504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41271-5DBC-4600-AD61-7CFC99E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59DEE-C9EA-467B-86E5-AFC0A0C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17508-8848-4185-B1DE-493AB4C7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10F0C-7AAE-49CE-B54C-7EC4428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F1BA4-398B-4626-B906-9A78EC61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220C2-CEA1-4536-B2B4-841C860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142D7-F32D-42E2-BF7C-A5D2C6DC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2C0DB-93A0-4426-B8C9-AE9945A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0ED1B-C892-48C8-8521-53343D0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D28FE-811D-48F6-BB40-76A1074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64B-421E-402B-AA80-686C035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635A3-799E-49D3-A664-4887F10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368C5-8DBC-4E25-8143-B3DBEFB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1C05D-91B2-4FBA-88DD-8D6E984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7AB95-E65D-44E9-B00F-5FF8C41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F94D4-766F-43EC-B5EF-B9352BD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E19E7-6E9C-42AD-B5F0-13686F1A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E4B80-EA9D-433B-9580-6F59537D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CC1C0-EACD-4F07-8EDC-8284CC8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632C3-6C63-479D-8BBB-7B9F9E7C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CBB96-4090-4CA6-BF5A-B9FA2116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B81-DC65-4E86-82A0-727E3DA6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59460-CE74-4760-8192-BA99C6F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6B595-B24A-4191-8C39-FCB96C86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F2464-EBF8-4AA3-A26D-1F01E3B5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546CB-9B31-46B3-B71B-CF6465F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9B1B0-49C5-4334-BA7C-8C0202D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67D41-052F-4CFC-868C-251B63F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B6DD4-EC26-4D61-A04B-A79633C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C562D-A141-4852-883A-B8A78DF3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CCD7F-3ECB-49FA-8F8A-18E14AA3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71805-D0FA-44F7-B532-C423A8B5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703-D2D4-415D-8E24-E9DA3365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09451-5E07-4FB6-AD53-67E53EB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68352-7774-4517-8B4B-58AA6DC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F57DD-66AB-4875-B497-833F513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74B27-48FC-4B91-922F-3C9303B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B1C3C6-F593-4132-88C7-6B35FB7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BF4E5-A284-45BF-9943-FE91372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D2E7D-C8A8-46BD-960D-24923F8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93DBD-DC30-4788-BC07-55F9DA3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F6639-3ADD-4F1F-B755-94CFE1AE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79528-5016-4595-8164-FDDA85C0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43B2-8FCB-4C07-B396-6E82AFFE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C8644-B75D-4A73-96BD-770E6A8E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BE482D-C2CD-4D57-A9DF-8B1A3D1F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26390-4133-493A-B59C-ECF38FA9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74146-2294-4EE5-8B92-C4C58DBE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7AED5-BDF6-41E2-AEE5-0BEEDCB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055E8-D415-49CB-9AD0-18A63BE6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711A2-1ACF-411B-8AC5-B7E9FE9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295C4-D114-44DC-AC79-886F007A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5B6C4-8566-4DCC-92B2-CFC1764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2303B-D1C2-424D-A7DA-E7CF0AF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742E-8A47-409D-BBEA-D6D07AB9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10D62-CA08-4960-8DD7-DD15196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A5D9B-51F6-482D-9FE9-3624B46E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9DB6D-73D8-430A-834E-326BEC75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B199-7B5E-49B8-8D29-2D021C1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F1A0-8B5D-4D7A-BE11-AC9897B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BB63-CDAD-4FED-9AC1-D0C01B80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5041-C028-40A2-AD64-FAB8943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A2B-E942-4B42-A363-59166DF5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3FC9-070D-4B72-8B7D-C6884C87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004D-CD2D-4172-9B39-CFD0CAA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7DC5-7C3F-47A3-8245-C75DE74E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F505-9CA6-4F55-AA74-0FD8EEC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D342-A134-4E97-9E37-35C3DC1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ECC7-1878-4C96-A670-19556FAF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404E-5A6C-41ED-8F81-FC998E4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0053-E363-4530-97D4-A679D7BA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91AF-955E-4C3E-AFA4-03DDEBE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E0D2-E46E-4A52-896E-136DCE3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49D-8412-4C17-B170-AF5EB6D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B08E-6D10-4956-B548-BDE7C13C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2CD6-74E1-42EB-96FB-120AD8F2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2D5A2-EC83-4FEF-88B4-6061B959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ADA5-508E-4F9A-AE76-CDDCB32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3044-C36F-46E2-BA60-FE0E7AF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EBA9-2EB4-4D5E-9BEB-8866CEE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74BA-F0E2-43D4-9F91-F440E17C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0056-2543-4D6F-8EEC-AC0EA42B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0803-5648-4E4E-85A3-22D347FC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F52D-B3DB-4F91-9000-A5AF66EF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B89-CF1B-489C-AF16-90785B3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0E60-F320-4137-A423-249A337E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DAF9-7E9D-4650-A937-B04E298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23FC-D273-4216-976D-3A2E50D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94EE-F3BA-4ACB-A786-063BDCB2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BFF3-9077-48E7-946E-A5EA32B2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5BD0-E19B-41F2-8BDD-501C914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00FE-D99F-447B-A54E-2A8B686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5D90-EE80-4528-B235-F9E62CF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A81F-6D1E-4A58-96FF-A6B8AA5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EE27-328E-40B5-900C-798C9066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BD0-8CD4-4816-AACB-82B7A58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6E9F-95F4-4BD4-9DE5-3A1DEC0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8D76-B275-4F9F-9B56-57A27DB2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718F-777B-4160-BC9C-74B0324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AFB4-FF77-4904-BC9D-B9663B3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466A-9525-4FEF-AC8D-AFC3298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4D00-467A-4C67-88D3-625E4D2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4154-57C4-4CAF-A6CB-1151ED0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5BA4E-75BE-4083-B319-9F62B69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DA3B-6E9D-4E5E-BFE6-43A9404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30A4-163E-4331-8FA4-5B38029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534-1578-4A15-88D0-4F4BE18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15A5-3D61-4FCD-AB5C-7367F76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4058C-F0F1-465F-B3FC-E362FBA6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8813-EB48-4AEB-A819-0075FB7D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9C51-FA88-4B3F-B3A8-F16900F1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3ED6-7436-4A72-B6CA-65CB4E7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AA41-AA02-41A0-A536-EB7C1DB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84F9-268A-4B91-9DC2-9F64C11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42F4-EAAE-47EA-92AA-6DAE99F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221B-F0BC-446C-91F2-0C638E5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4113-C585-4F27-A954-6BE693F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5ED-6DE5-46EB-B813-ACA67E72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6D8E-9F5D-4365-BE23-D6A12791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D923-312C-4CD1-94CF-2E91981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D8AC-6B8F-40AF-99D3-8086934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3038-496E-4328-A39C-707AC44B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18EF7-260E-4F9D-AC95-DE2B1BAC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3C628-F0B1-44B8-92BA-6F87D995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98B7-2F6B-4B67-9DE8-6A6B74A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90CD-D55E-4EDE-8556-616F997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A186-9C8D-4ED0-9685-B6331D6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7FF6-E8AB-41F5-82A1-2260B59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C8C-D05D-4DE1-A842-DF59FA8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AA18-AE0A-4A5A-8CA7-DF50ED6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3B15-777C-4CFC-AE93-ADB898F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1397C-6EFC-42F4-BCEC-87FB09F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A2DDF-48AA-4E3D-8F11-7B2A4FC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1D0ED-BB9A-43C7-847B-D670E6D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D76CB-2D2B-4E9C-9637-741DEF1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16EC-16E9-4A23-9BE4-61DEE171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F2C5D-25D6-41B8-9592-D41B1099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54FCF-4D9C-4CEE-8CB4-995295C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373EF-2850-4ED9-A644-B7B277E0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C40-0FA2-4AAF-80AA-17557851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1FB-06ED-49E4-BA87-6C9057D71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D1B0-87AF-41CF-89BC-D43D14768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5F9-3973-4E31-AE1F-94348A460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F6E9-6612-4F4F-8D88-F3B7E4D66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8D9-4230-4578-9AE1-20B6F96A4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AA8A-7E7C-4A81-9138-F79692A223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120-910E-4C89-93D6-6746F71164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EA18-1397-4C86-A73E-614598D22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0B7D-EB64-4C67-9BA1-4B9E3429F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3501-AB9E-4164-A110-3B596AF05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EFB-C36F-4DB1-848F-951A06771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DC1A-41FA-4E02-9E05-F76E7A887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5A1-720A-4106-A729-5F074ED6B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3C63-863F-4410-BF21-28AE77B10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F6C-6DE7-49A1-9EBD-8712F61A2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DD1C-0537-41F4-9635-61862F087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D045-7E97-4037-871E-4C92C80DB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90AA-2603-4837-8456-3E8F90CAC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EC0-753C-4883-A095-3A22EE93A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FC4-217E-4619-B7C2-13A796279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ACF-BDAE-4E60-8AED-2D42FAEE4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4863-CA28-47E8-A0DB-0BF319EFF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8EC-E732-47FA-B55A-B850B1289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940-CEF0-4189-AEB0-C05245102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D2C-86AD-43FE-AEDF-121138BE9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A86-F04C-43CA-B752-F2E717ED1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DF68-C303-4411-B28A-CEA63D08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D596-DD72-474B-816F-CCC5361C1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3BD-0E1C-4761-8501-8466E9DF1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9AC-F236-4A21-B8DD-83CE6273E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C50C-BC81-4F0B-9757-B52E7DCAF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BF93-7D5E-4A72-A947-DB570ABE72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FC3-E7F1-4C4D-82BC-C79CEEE6A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7D4-C3B0-43AF-92E0-6D57ED0EC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932-A56A-4E8A-9246-3B461C0FE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7BF-5989-4B72-8F89-C00A1CAC1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F09-5039-49EB-8E62-7FEF0FA97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9646-74D6-4041-B1C9-E59B4DF6DE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87F-63E3-426C-B7C1-1B61D3408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495520" cy="581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90360" y="3114720"/>
            <a:ext cx="8963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28560" y="963720"/>
            <a:ext cx="7886880" cy="3427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2"/>
          <a:stretch/>
        </p:blipFill>
        <p:spPr>
          <a:xfrm>
            <a:off x="6357960" y="1285920"/>
            <a:ext cx="1357200" cy="404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3"/>
          <a:stretch/>
        </p:blipFill>
        <p:spPr>
          <a:xfrm>
            <a:off x="6643800" y="200016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4"/>
          <a:stretch/>
        </p:blipFill>
        <p:spPr>
          <a:xfrm>
            <a:off x="5857920" y="328608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361800" y="1106640"/>
            <a:ext cx="8420400" cy="512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3429000" y="2273400"/>
            <a:ext cx="642960" cy="404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3357720" y="400068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3929040" y="5715000"/>
            <a:ext cx="1143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352440" y="919080"/>
            <a:ext cx="8439120" cy="562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6357960" y="500076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8072280" y="5548320"/>
            <a:ext cx="8575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633240" y="1182600"/>
            <a:ext cx="7875720" cy="51228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6143760" y="1214280"/>
            <a:ext cx="2214360" cy="405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1143000" y="1785960"/>
            <a:ext cx="2786040" cy="404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4500720" y="292896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6858000" y="578628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3" descr=""/>
          <p:cNvPicPr/>
          <p:nvPr/>
        </p:nvPicPr>
        <p:blipFill>
          <a:blip r:embed="rId1"/>
          <a:stretch/>
        </p:blipFill>
        <p:spPr>
          <a:xfrm>
            <a:off x="128520" y="971640"/>
            <a:ext cx="8886960" cy="49147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300024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442908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578628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4214880" y="2428920"/>
            <a:ext cx="1214280" cy="330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6643800" y="2428920"/>
            <a:ext cx="785880" cy="330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928960" y="31431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4429080" y="31431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1714680" y="3500280"/>
            <a:ext cx="649080" cy="33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0"/>
          <a:stretch/>
        </p:blipFill>
        <p:spPr>
          <a:xfrm>
            <a:off x="8286840" y="5527800"/>
            <a:ext cx="4284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171360" y="789120"/>
            <a:ext cx="8801280" cy="5952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8412120" y="3166920"/>
            <a:ext cx="374760" cy="330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4286160" y="6000840"/>
            <a:ext cx="14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1285920" y="6357960"/>
            <a:ext cx="649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142920" y="736560"/>
            <a:ext cx="8858160" cy="6077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5072040" y="690480"/>
            <a:ext cx="857160" cy="330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7858080" y="69048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4286160" y="1081080"/>
            <a:ext cx="2000520" cy="285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8429760" y="221472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6"/>
          <a:stretch/>
        </p:blipFill>
        <p:spPr>
          <a:xfrm>
            <a:off x="5143680" y="4643280"/>
            <a:ext cx="857160" cy="330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7"/>
          <a:stretch/>
        </p:blipFill>
        <p:spPr>
          <a:xfrm>
            <a:off x="3714840" y="535788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8"/>
          <a:stretch/>
        </p:blipFill>
        <p:spPr>
          <a:xfrm>
            <a:off x="1380960" y="6429240"/>
            <a:ext cx="649440" cy="330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9"/>
          <a:stretch/>
        </p:blipFill>
        <p:spPr>
          <a:xfrm>
            <a:off x="4500720" y="6429240"/>
            <a:ext cx="35712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2" descr=""/>
          <p:cNvPicPr/>
          <p:nvPr/>
        </p:nvPicPr>
        <p:blipFill>
          <a:blip r:embed="rId1"/>
          <a:stretch/>
        </p:blipFill>
        <p:spPr>
          <a:xfrm>
            <a:off x="343080" y="977760"/>
            <a:ext cx="8458200" cy="5686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7905600" y="33433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412920" y="689040"/>
            <a:ext cx="8513640" cy="558144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2" descr=""/>
          <p:cNvPicPr/>
          <p:nvPr/>
        </p:nvPicPr>
        <p:blipFill>
          <a:blip r:embed="rId2"/>
          <a:stretch/>
        </p:blipFill>
        <p:spPr>
          <a:xfrm>
            <a:off x="957240" y="6353280"/>
            <a:ext cx="5791320" cy="4572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8113680" y="410544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314280" y="844560"/>
            <a:ext cx="8515440" cy="574344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2" descr=""/>
          <p:cNvPicPr/>
          <p:nvPr/>
        </p:nvPicPr>
        <p:blipFill>
          <a:blip r:embed="rId2"/>
          <a:stretch/>
        </p:blipFill>
        <p:spPr>
          <a:xfrm>
            <a:off x="5813280" y="3703680"/>
            <a:ext cx="2951280" cy="30859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7858080" y="30812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008000" y="752400"/>
            <a:ext cx="4894200" cy="10191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" descr=""/>
          <p:cNvPicPr/>
          <p:nvPr/>
        </p:nvPicPr>
        <p:blipFill>
          <a:blip r:embed="rId2"/>
          <a:stretch/>
        </p:blipFill>
        <p:spPr>
          <a:xfrm>
            <a:off x="366840" y="1874880"/>
            <a:ext cx="8408880" cy="4913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2928960" y="5072040"/>
            <a:ext cx="785880" cy="442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6429240" y="507204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8001000" y="564372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6"/>
          <a:stretch/>
        </p:blipFill>
        <p:spPr>
          <a:xfrm>
            <a:off x="1571760" y="6238800"/>
            <a:ext cx="22143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836640" y="1206360"/>
            <a:ext cx="7808760" cy="99072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2"/>
          <a:stretch/>
        </p:blipFill>
        <p:spPr>
          <a:xfrm>
            <a:off x="307800" y="2371680"/>
            <a:ext cx="8353440" cy="3981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6143760" y="119052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5429160" y="5262480"/>
            <a:ext cx="107172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5:36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